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CE1B-76AF-4D9F-8F40-EA9F4357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C143-067B-45FC-ABC8-9270D4C3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EE26-595C-4DC3-9F47-6EF381E86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B7CA-05EE-4576-BD75-CCCD43E1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2ECB-D22A-4003-984A-2D7D2EFCA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300CB-7F8E-48DB-9A14-0C357F7F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12A0-89D8-4BD1-966B-075AC4A0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F216-F1D5-40FD-A85E-176BE367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426B-FD0B-4782-AFB8-15A56A25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96ED-2C9C-4B20-A2B2-912B8C0C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22D6-6717-473A-8443-41C193F2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B631-4218-4FED-9555-7135BE36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40ED-E293-4C9B-97DA-D79E43D6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4C75-0A2A-4719-9996-F62DEB4E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B53D-14D2-4F8B-AA49-D2380F95C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76C7-9009-4FBB-ABD2-2264CFD9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DAF6-5AC2-4033-A3AF-5434CA3E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6689-212F-46B1-A672-DD84C1DE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5111-3D9C-4910-8E17-8DD7B3B3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6E59-0318-4F65-838E-A2AAA5FF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DEEE-97DE-407D-8292-FA04A8F5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1D87-B385-4746-A657-6298E9AC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E021-9935-4458-A98E-D9CA427A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55C4-F94B-47B3-AFC2-E04833AF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2A4B-2124-4685-9A58-3F9233DF987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C676-F146-4606-A18A-AB444B6D221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jobsrv.eiu.edu/students/resumes/verbs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6576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Creating a “Winning” CV</a:t>
            </a:r>
            <a:br>
              <a:rPr sz="3400"/>
            </a:br>
            <a:br>
              <a:rPr sz="34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mplied</a:t>
            </a: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y: A.R. Ajwar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ecturer, Deputy Coordinator (Internship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partment of Account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niversity of Sri Jayewardenepu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tinued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3428640"/>
            <a:ext cx="76197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rite long on your first draf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– 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You can edit back on later versio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ACTION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verb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reated, launched, pioneered, motivated, promoted, revitalized, 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Use Powerful Words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55960" y="2490840"/>
            <a:ext cx="495432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500" spc="-1" strike="noStrike">
                <a:solidFill>
                  <a:srgbClr val="000000"/>
                </a:solidFill>
                <a:latin typeface="Verdana"/>
              </a:rPr>
              <a:t>Ten to 20 seconds is all the time you have to persuade a prospective employer to read further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owerful Words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9400" y="1752480"/>
            <a:ext cx="39178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ceptualiz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i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i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lo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r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imin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r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biliz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gotiated, etc…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33000" y="1752480"/>
            <a:ext cx="3251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hiev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eler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swe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lanc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ainstorm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ief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oaden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rifi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abor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e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ceiv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What is the "correct" CV format to use?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is important to understand one point: "There is no one right way to construct a CV."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are hundreds of styles to choose from. You need to select the style that best matches you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You are the only person who will be representing the information presented in your resum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7160" y="658440"/>
            <a:ext cx="8637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Physical appeara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Resumes should be prepared on a personal computer. 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Use 8 1/2 x 11 inch high quality paper. 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Most often white, off-white, ivory, or light gray is recommended. 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Trebuchet MS"/>
              </a:rPr>
              <a:t>Always balance the material on the page with at least 1 inch margins on all sides of the paper</a:t>
            </a: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Never include a current dat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Justify your text and use a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Trebuchet MS"/>
                <a:ea typeface="Arial Unicode MS"/>
              </a:rPr>
              <a:t>12 point Times Roman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7160" y="658440"/>
            <a:ext cx="8637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Elements of Information Sec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120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The Head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OBJECTI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PERSONAL INFORM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EDUC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QUALIFIC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EXPERIE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SKIL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ACTIVIT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REFEREN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dditional Compon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fessional affili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nors, awards and activit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mpus/community invol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adership activiti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reign language proficienc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olunteer experien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ferences (addendum to CV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590040"/>
            <a:ext cx="8001000" cy="9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The Head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sually the first piece of information the employers sees regarding you qualifications, is the heading section of your resume. 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Trebuchet MS"/>
              </a:rPr>
              <a:t>This should include your name, address (local/current), telephone number, and e-mail address</a:t>
            </a: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. 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There is no need to type resume at the top. 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Always give your full name. 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It can be typed in capital letters &amp; in bold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2712960"/>
            <a:ext cx="9144000" cy="1797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YOUR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Present Address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Permanent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Phone #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Phone 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ample Heading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2133720" y="1676520"/>
            <a:ext cx="5656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ke J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eadow 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amonte Springs, FL 321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07) 555-12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keJones@aol.c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3200400"/>
            <a:ext cx="861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3276720"/>
            <a:ext cx="8458200" cy="19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an Willi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sanWilliams@yaho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Addre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anent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5 Maple S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 Sycamore Dr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lando, FL 3283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ami, FL 368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07) 555-3357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05) 555-442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51055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52578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181480"/>
            <a:ext cx="9982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 Prospect Roa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lando, FL 32837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407) 555-8975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Smith@msn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Guidelines for a Cover Let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08240" y="1752480"/>
            <a:ext cx="62229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dress to a specific person when possible.  Avoid “To whom it may concern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 specific about the position for which you are an appl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ghlight your objectiv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ighlight major accomplishments of your career to d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 brief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Objectiv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hor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pecifi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ype of posi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eferred work environ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pecialized skil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ailor to each posi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you can do for the employ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590040"/>
            <a:ext cx="8001000" cy="9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OBJECTIV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s is used to convey career goals. 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If you are willing to relocate, include this at the end of your objective. 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An alternative to an objective is a Personal Profile. 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This usually consists of two or four sentences. 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This emphasizes your strongest talents &amp; experienc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ample Objectiv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47920" y="1523520"/>
            <a:ext cx="7238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o obtain an position in the Marketing industr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o work with a progressive Biomedical firm to develop a corporate outreach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aralegal position with opportunity to conduct title searches and other research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ax professional with a national accounting fir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pecial Education position with Orange County Public School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art-time legal assistant position with a law firm focusing on environmental issu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file vs. Objectiv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76197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7320" indent="-427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file sections take the place of an objective, and feature the skills and abilities you want to apply in your next posi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4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files sections can be named “Profile,” “Strengths,” “Expertise,” “Areas of Knowledge &amp; Ability”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5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rofiles serve as mini-advertisements for the rest of the resum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20570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file Exampl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342864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rengths include excellent sales skills, record of effective team play, and demonstrated strong work ethic.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2408400"/>
            <a:ext cx="9144000" cy="277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YOUR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Present Address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Permanent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Phone #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Phone 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To obtain a challenging internship in the field of adult fitness/cardiac rehabilitation/sports management which would utilize the knowledge and skills I have gained through my edu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10666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800" spc="-1" strike="noStrike">
                <a:solidFill>
                  <a:srgbClr val="000000"/>
                </a:solidFill>
                <a:latin typeface="Verdana"/>
              </a:rPr>
              <a:t>Personal information inclu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t-EE" sz="3000" spc="-1" strike="noStrike">
                <a:solidFill>
                  <a:srgbClr val="000000"/>
                </a:solidFill>
                <a:latin typeface="Verdana"/>
              </a:rPr>
              <a:t>Surname, Given Nam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t-EE" sz="3000" spc="-1" strike="noStrike">
                <a:solidFill>
                  <a:srgbClr val="000000"/>
                </a:solidFill>
                <a:latin typeface="Verdana"/>
              </a:rPr>
              <a:t>Date and Place of Bir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t-EE" sz="3000" spc="-1" strike="noStrike">
                <a:solidFill>
                  <a:srgbClr val="000000"/>
                </a:solidFill>
                <a:latin typeface="Verdana"/>
              </a:rPr>
              <a:t>Nationalit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t-EE" sz="3000" spc="-1" strike="noStrike">
                <a:solidFill>
                  <a:srgbClr val="000000"/>
                </a:solidFill>
                <a:latin typeface="Verdana"/>
              </a:rPr>
              <a:t>Address, Telephone numbers, E-mai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t-EE" sz="30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590040"/>
            <a:ext cx="8001000" cy="9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EDUC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Begin with your most recent or anticipated degree to be completed and then continue back in time. 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Include dates of attendance, school names location, date of graduation, degree, major, minor and areas of concentration. 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Your G.P.A. is optional. 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If you include it, it should be written as follows:  Cumulative or Major G.P.A. 2.78/4.0. 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If you financed you education, you should include this with approximate percentage financed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amples of Education Sec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7524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1828800"/>
            <a:ext cx="7696080" cy="19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IO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Central Florid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lando, F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helor of Sci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y 2003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: Biolo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A: 3.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encia Community Colleg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lando, F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s of Art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00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38862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4114800"/>
            <a:ext cx="7696080" cy="14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IO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Central Florid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lando, F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ter of Social Wor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00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helor of  Sci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200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ajor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cial Wor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nor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sycholog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57913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658440"/>
            <a:ext cx="8637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Purpose of a “Winning” CV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Trebuchet MS"/>
              </a:rPr>
              <a:t>self summary</a:t>
            </a: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 of your personal, educational, &amp; employment experiences &amp; qualifications is known as a CV. 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A CV should tell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Trebuchet MS"/>
              </a:rPr>
              <a:t>who you are</a:t>
            </a: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, what you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Trebuchet MS"/>
              </a:rPr>
              <a:t>know</a:t>
            </a: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, what you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Trebuchet MS"/>
              </a:rPr>
              <a:t>do well</a:t>
            </a: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 &amp; what you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Trebuchet MS"/>
              </a:rPr>
              <a:t>want to do</a:t>
            </a: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 with the knowledge you have. 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A CV is done to serve the purpose of getting an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Trebuchet MS"/>
              </a:rPr>
              <a:t>interview for you</a:t>
            </a: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, serve as a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Trebuchet MS"/>
              </a:rPr>
              <a:t>reference</a:t>
            </a: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 for the employer during the interview, &amp; as a 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Trebuchet MS"/>
              </a:rPr>
              <a:t>reminder</a:t>
            </a: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 of you after the interview is complete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609480"/>
            <a:ext cx="9144000" cy="5447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YOUR 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Present Address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Permanent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Phone #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Phone 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OBJ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To obtain a challenging internship in the field of management which would utilize the knowledge and skills I have gained through my educ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D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astern Illinois University, Charleston, 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Bachelor of Science in Physical Education – April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Minor in Community Heal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GPA: 3.14/4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Richland Community College, Decatur, 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Associates in Science – December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PR certif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ofessional Experie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95280" y="1922040"/>
            <a:ext cx="7848720" cy="34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lated employment (full-time or part-time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ships (paid or unpaid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-o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er jo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olunteer/Service learn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Verdana"/>
              </a:rPr>
              <a:t>Senior projects or academic resear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amples of Experien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133720"/>
            <a:ext cx="769608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shington Mutua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lando, F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ing Intern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– Aug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viewed and corrected accounting entries, assisted with financial planning input and analysis, and generated reports.  (Accounting corrections revealed nearly $50,000 in unpaid bills and mislaid funds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920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4191120"/>
            <a:ext cx="784836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Central Florida, College of Busin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lando, F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uate Assistan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 2002  –  pres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st in class preparation, update computer files, internet research, and other organiz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workshops on resume writing and interviewing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individual career guidance and academic advis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175248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38098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8600" y="91440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590040"/>
            <a:ext cx="8001000" cy="9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EMPLOY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This area is of great importance. 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Use the reverse chronological order just as you did with education. 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Include part-time, summer, volunteer work, student teaching, &amp; graduate assistant positions. 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Under this category, identify job title, name of employer, and employer's city and state. 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rebuchet MS"/>
              </a:rPr>
              <a:t>Generally, pre-collegiate work experience is not included unless it is highly relevant or was continued through the college year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693720"/>
            <a:ext cx="8001000" cy="8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HONORS/ACTIVITI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590920"/>
            <a:ext cx="9144000" cy="2284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M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ist 2 to 3 jobs (briefly) in reverse chronology order. Include: organization name and location (city and state), dates (month and 4 digit year), job title and responsi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HONORS/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Intramural spor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Physical Education Club, 200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ean’s Li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pecial Olympic Volunteer, Spring 2001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feren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sts professional contacts who have direct knowledge of your skills and qualifica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ferences may include faculty, former employers, and internship superviso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btain permission from references in advance and provide them with current resu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28600" y="10666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amples of Additional Componen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1371600" y="2057400"/>
            <a:ext cx="7391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SIONAL MEMBERSHIP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erican Counseling Association, memb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Career Development Association, Secretary (Fall 200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Academic Advising Association, me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19051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327672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71600" y="3429000"/>
            <a:ext cx="7543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NORS, AWARDS and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lorida Bright Futures Scho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u Beta Pi Engineering Honor Socie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g Brothers Volunte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45720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648320"/>
            <a:ext cx="7331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ERSHIP ACTIVITI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ident of Student Government Assoc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dge Coordinator for Sigma Chi Fraternit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asurer for UCF Chapter of the American Society for Microbi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4920" y="5867280"/>
            <a:ext cx="853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amples of Skills Sec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7524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2057400"/>
            <a:ext cx="7391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LL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nguag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luent in Spanis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puter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Word, Excel, Powerpoint and Acces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971800"/>
            <a:ext cx="838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57150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3276720"/>
            <a:ext cx="723888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LLS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ail oriented and well organ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ellent verbal and written 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ng customer service focu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going with a positive attit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essional demean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Writing a “Winning” CV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V demonstrate your ability to write &amp; organize your thoughts. 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Do not rely on another person or CV preparation service to write your CV. 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Neatness &amp; correct spelling are essential. 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Employers prefer that CVs be free of spelling, typographical, &amp; grammar mistak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2133720"/>
            <a:ext cx="9144000" cy="350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EM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List 2 to 3 jobs (briefly) in reverse chronology order. Include: organization name and location (city and state), dates (month and 4 digit year), job title and responsibi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HONORS/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Intramural spor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Physical Education Club, 2001-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Dean’s Li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Special Olympic Volunteer, Spring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RE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References Availed Upon Reque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ddddd"/>
                </a:solidFill>
                <a:latin typeface="Times New Roman"/>
                <a:ea typeface="Times New Roman"/>
              </a:rPr>
              <a:t>Career Services, Eastern Illinois University, Charleston, IL 61920. Telephone: (217) 581-2412 or Fax: (217) 581-2222.</a:t>
            </a:r>
            <a:r>
              <a:rPr b="0" lang="en-US" sz="1600" spc="-1" strike="noStrike">
                <a:solidFill>
                  <a:srgbClr val="dddddd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685800"/>
            <a:ext cx="23623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ample CV Template</a:t>
            </a:r>
            <a:br>
              <a:rPr sz="1700"/>
            </a:b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S Works</a:t>
            </a:r>
            <a:br>
              <a:rPr sz="1700"/>
            </a:br>
            <a:r>
              <a:rPr b="1" lang="en-US" sz="2100" spc="-1" strike="noStrike">
                <a:solidFill>
                  <a:srgbClr val="dddddd"/>
                </a:solidFill>
                <a:latin typeface="Verdana"/>
              </a:rPr>
              <a:t>Curriculum Vita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rcRect l="15278" t="22225" r="31251" b="11113"/>
          <a:stretch/>
        </p:blipFill>
        <p:spPr>
          <a:xfrm>
            <a:off x="2819520" y="762120"/>
            <a:ext cx="586728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Verdana"/>
              </a:rPr>
              <a:t>Web link to download this present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3352320"/>
            <a:ext cx="83055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http://ajward.download.tripod.co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rebuchet MS"/>
              </a:rPr>
              <a:t>Writing a “Winning” Resu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A CV may only be reviewed in 30-35 seconds. 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ince this is the case, CVs should be written in a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Trebuchet MS"/>
              </a:rPr>
              <a:t>concise and easy-to-read format</a:t>
            </a: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. 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Start each sentence with an action verb if possible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rebuchet MS"/>
              </a:rPr>
              <a:t>Limit the use of the pronoun "I". 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CV Do's &amp; Don't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O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proofread your resume. Check for spelling and grammatical error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O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use 12 point font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O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include CURRENT phone number and e-mail address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O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use quality resume paper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O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use </a:t>
            </a:r>
            <a:r>
              <a:rPr b="0" lang="en-US" sz="17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action verbs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Verdana"/>
              </a:rPr>
              <a:t> when describing work experience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O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be honest -- be prepared to back up everything on your resume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O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use organized, easy-to-read format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O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send your resume with a cover letter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ON'T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use the pronoun "I" very often or not at all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ON'T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rely on another person to write your resume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ON'T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use decorative fonts or bullets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ON'T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leave big gaps in your employment history - explain why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DON'T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include personal information, i.e., height, weight, etc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800" spc="-1" strike="noStrike">
                <a:solidFill>
                  <a:srgbClr val="000000"/>
                </a:solidFill>
                <a:latin typeface="Verdana"/>
              </a:rPr>
              <a:t>Reasons for CV </a:t>
            </a:r>
            <a:r>
              <a:rPr b="0" lang="et-EE" sz="38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sz="3800" spc="-1" strike="noStrike">
                <a:solidFill>
                  <a:srgbClr val="000000"/>
                </a:solidFill>
                <a:latin typeface="Verdana"/>
              </a:rPr>
              <a:t>ejec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sz="3900" spc="-1" strike="noStrike">
                <a:solidFill>
                  <a:srgbClr val="000000"/>
                </a:solidFill>
                <a:latin typeface="Verdana"/>
              </a:rPr>
              <a:t>Poor visual layout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sz="3900" spc="-1" strike="noStrike">
                <a:solidFill>
                  <a:srgbClr val="000000"/>
                </a:solidFill>
                <a:latin typeface="Verdana"/>
              </a:rPr>
              <a:t>Grammar mistakes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sz="3900" spc="-1" strike="noStrike">
                <a:solidFill>
                  <a:srgbClr val="000000"/>
                </a:solidFill>
                <a:latin typeface="Verdana"/>
              </a:rPr>
              <a:t>Overwritten</a:t>
            </a:r>
            <a:r>
              <a:rPr b="0" lang="et-EE" sz="3900" spc="-1" strike="noStrike">
                <a:solidFill>
                  <a:srgbClr val="000000"/>
                </a:solidFill>
                <a:latin typeface="Verdana"/>
              </a:rPr>
              <a:t> paragraphs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t-EE" sz="3900" spc="-1" strike="noStrike">
                <a:solidFill>
                  <a:srgbClr val="000000"/>
                </a:solidFill>
                <a:latin typeface="Verdana"/>
              </a:rPr>
              <a:t>CV too long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19047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sume-Writing Guideli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8001000" cy="18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13280" indent="-4132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must tell the tru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s your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job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o sell yourself in your resu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esume is about your future, not your pa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 put the information in order of interest to your rea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9807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Five Writing Tip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3352680"/>
            <a:ext cx="7620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 an exact figure whenever you c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$9870”   “7 clients”    “23 days”    “45%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 a superlative whenever you c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rst, only, most, best, fastest, largest, 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cus on accomplishments, not routine du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ccomplishments sell, duties bo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6:36:42Z</dcterms:created>
  <dc:creator>Jake Emmett</dc:creator>
  <dc:description/>
  <dc:language>en-US</dc:language>
  <cp:lastModifiedBy>wic</cp:lastModifiedBy>
  <dcterms:modified xsi:type="dcterms:W3CDTF">2006-11-12T15:20:35Z</dcterms:modified>
  <cp:revision>90</cp:revision>
  <dc:subject/>
  <dc:title>Writing a Winning Resume</dc:title>
</cp:coreProperties>
</file>